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5F32-8D54-4DC2-A86F-09A9DF251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DEBA-C226-484B-AEF2-7E037D91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585B-88B6-4159-A569-B281D78D4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15F0-35EB-4998-8A43-40A07A543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DE43-AC42-4C51-9627-E1412D022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C647-F21C-4704-AF1D-099E63CD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4BCF-0FD6-4C42-80E8-9CEBF26D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EAAC-1E7C-4F8B-B749-5B450959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600E-17B3-4954-8AC8-E347F297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EFA6-3A58-4ADE-8097-5BF3FA2F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E2BF-4D4F-429F-9EBB-BD8C3700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F8CF-DF27-4B20-A92A-17F67366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9871-72C6-4718-9D15-863828F6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5104-A15B-46D4-B138-7DB6ACBC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1B53-8D14-4D43-832A-D9DD9403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7CD1-C321-4F66-A79C-758306120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EA5C-09A2-4AED-995F-942B57BC8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704C-7695-4E70-8798-A7D34118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46FE-6ED4-4309-9DA9-9A8E55B9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67CF-E161-4FAF-A0DD-AE82D599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3B1B-9AED-417F-A8B6-79BA92B4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4B67-CF26-49C3-AB5F-66B0C6DB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C773-2E2B-455D-97E7-8DC04774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5645-55C1-4F28-98C7-AE39B80F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A942-3E74-4C32-A8F6-228D492ED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A9C1-90F4-4716-8E49-7680A58C2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chemicalelements.com/" TargetMode="External"/><Relationship Id="rId2" Type="http://schemas.openxmlformats.org/officeDocument/2006/relationships/hyperlink" Target="http://www.periodictable.com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toms, Elements and the Periodic Tab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ummary and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Video on Atom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The_Atom.asf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5438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Periodic Tab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es the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element has its own 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ox shows the elemen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ma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s in different pl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different tab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5105520" y="3505320"/>
            <a:ext cx="3200400" cy="2895480"/>
          </a:xfrm>
          <a:prstGeom prst="bevel">
            <a:avLst>
              <a:gd name="adj" fmla="val 125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5410080" y="3657600"/>
            <a:ext cx="2590920" cy="25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3200400" y="3733920"/>
            <a:ext cx="3048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2819520" y="4267080"/>
            <a:ext cx="327636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4191120" y="4876920"/>
            <a:ext cx="22860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rganiza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oup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o up and d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other word for up and d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else do you know the word group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iods 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o acr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other word for acro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else do you know the word perio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tomic numbers get bigger as you go to the right and down the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http://www.chem.wisc.edu/areas/reich/handouts/periodic-table.GIF"/>
          <p:cNvPicPr/>
          <p:nvPr/>
        </p:nvPicPr>
        <p:blipFill>
          <a:blip r:embed="rId1"/>
          <a:stretch/>
        </p:blipFill>
        <p:spPr>
          <a:xfrm>
            <a:off x="1066680" y="1828800"/>
            <a:ext cx="7696440" cy="41212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1600200" y="36576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7696080" y="2514600"/>
            <a:ext cx="762120" cy="2514600"/>
          </a:xfrm>
          <a:prstGeom prst="upDownArrow">
            <a:avLst>
              <a:gd name="adj1" fmla="val 50000"/>
              <a:gd name="adj2" fmla="val 65684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1828800" y="3657600"/>
            <a:ext cx="4876920" cy="838080"/>
          </a:xfrm>
          <a:prstGeom prst="leftRightArrow">
            <a:avLst>
              <a:gd name="adj1" fmla="val 50000"/>
              <a:gd name="adj2" fmla="val 115844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2819520" y="38098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i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7924680" y="2895480"/>
            <a:ext cx="381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rganiza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Video on Periodic Tab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0" name="The_Periodic_Table.asf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23888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Using the Periodic Tab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n element tells us how man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ton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in an elemen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nucleu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mber of protons in an element is the same as the number of electr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tons = Elec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  Oxygen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 atomic number is 8.  Oxygen has 8 protons and 8 electro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ill in this tab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143000" y="1397160"/>
          <a:ext cx="7543800" cy="4927320"/>
        </p:xfrm>
        <a:graphic>
          <a:graphicData uri="http://schemas.openxmlformats.org/drawingml/2006/table">
            <a:tbl>
              <a:tblPr/>
              <a:tblGrid>
                <a:gridCol w="1508040"/>
                <a:gridCol w="1509840"/>
                <a:gridCol w="1508040"/>
                <a:gridCol w="1509840"/>
                <a:gridCol w="1508040"/>
              </a:tblGrid>
              <a:tr h="110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omic numb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c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th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b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Valence Electr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371600" y="1752480"/>
            <a:ext cx="70102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ectron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rbi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or go around, the nucle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re are a certain number of electrons in each orb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ach period in the periodic table has shows a different orbit leve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Using the Periodic Tab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tomic mass is used to tell us how many neutrons are in an elemen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nucle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omic Mass – Atomic number = neu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:  Oxygen has an atomic mass of 16 and an atomic number of 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 – 8 = 8 neu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ill in this tab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066680" y="1752480"/>
          <a:ext cx="7620120" cy="41324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447920"/>
                <a:gridCol w="1600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omic M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omic numb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u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th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b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ter = everything around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om= tiny particle that makes up ma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 = a pure substance made of only one kind of a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Video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4" name="The_Elements.asf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7315200" cy="49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everything around 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ter is made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oms are made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tons, electr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u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emen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made of one type of a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se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ic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see how many protons, neutrons or electrons an element h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ojec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opt an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t the websites: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http://www.chemicalelements.com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http://www.periodictable.com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the adopt an element worksh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a poster about the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 your post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arts of an Ato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t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utr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lectr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7" descr="http://www.eskom.co.za/nuclear_energy/fuel/atom.jpg"/>
          <p:cNvPicPr/>
          <p:nvPr/>
        </p:nvPicPr>
        <p:blipFill>
          <a:blip r:embed="rId1"/>
          <a:stretch/>
        </p:blipFill>
        <p:spPr>
          <a:xfrm>
            <a:off x="4572000" y="1828800"/>
            <a:ext cx="3733920" cy="39877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8"/>
          <p:cNvSpPr/>
          <p:nvPr/>
        </p:nvSpPr>
        <p:spPr>
          <a:xfrm>
            <a:off x="4658040" y="5867280"/>
            <a:ext cx="350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eskom.co.za/nuclear_energy/fuel/atom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Nucleu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 the center of the a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made of neutrons and prot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http://gabrielbcn.files.wordpress.com/2007/07/atom-nucleus-quarks_300.jpg"/>
          <p:cNvPicPr/>
          <p:nvPr/>
        </p:nvPicPr>
        <p:blipFill>
          <a:blip r:embed="rId1"/>
          <a:srcRect l="0" t="0" r="24490" b="16598"/>
          <a:stretch/>
        </p:blipFill>
        <p:spPr>
          <a:xfrm>
            <a:off x="2438280" y="3048120"/>
            <a:ext cx="4267440" cy="30477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8"/>
          <p:cNvSpPr/>
          <p:nvPr/>
        </p:nvSpPr>
        <p:spPr>
          <a:xfrm>
            <a:off x="4722480" y="6324480"/>
            <a:ext cx="408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gabrielbcn.files.wordpress.com/2007/07/atom-nucleus-quarks_300.j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ot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e in the center of the at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ve a positive charge (+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ve a mass of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7" descr="atom"/>
          <p:cNvPicPr/>
          <p:nvPr/>
        </p:nvPicPr>
        <p:blipFill>
          <a:blip r:embed="rId1"/>
          <a:stretch/>
        </p:blipFill>
        <p:spPr>
          <a:xfrm>
            <a:off x="4800600" y="228600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Neutr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e in the center of the at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ve a neutral charge (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ve a mass of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5" descr="atom"/>
          <p:cNvPicPr/>
          <p:nvPr/>
        </p:nvPicPr>
        <p:blipFill>
          <a:blip r:embed="rId1"/>
          <a:stretch/>
        </p:blipFill>
        <p:spPr>
          <a:xfrm>
            <a:off x="4952880" y="1943280"/>
            <a:ext cx="37339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lectr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bit the nucle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a negative charge (-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very very little mass (0.0005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" descr="atom"/>
          <p:cNvPicPr/>
          <p:nvPr/>
        </p:nvPicPr>
        <p:blipFill>
          <a:blip r:embed="rId1"/>
          <a:stretch/>
        </p:blipFill>
        <p:spPr>
          <a:xfrm>
            <a:off x="4952880" y="1943280"/>
            <a:ext cx="37339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ill in this tab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564000" y="296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676520" y="1752480"/>
          <a:ext cx="6476760" cy="4114800"/>
        </p:xfrm>
        <a:graphic>
          <a:graphicData uri="http://schemas.openxmlformats.org/drawingml/2006/table">
            <a:tbl>
              <a:tblPr/>
              <a:tblGrid>
                <a:gridCol w="2514600"/>
                <a:gridCol w="1904760"/>
                <a:gridCol w="205740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cl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rg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o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5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ill in this Venn Diagra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re a proton and an electron the sam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re a proton and electron differ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4"/>
          <p:cNvSpPr/>
          <p:nvPr/>
        </p:nvSpPr>
        <p:spPr>
          <a:xfrm>
            <a:off x="1371600" y="3657600"/>
            <a:ext cx="4495680" cy="2743200"/>
          </a:xfrm>
          <a:prstGeom prst="ellipse">
            <a:avLst/>
          </a:prstGeom>
          <a:solidFill>
            <a:srgbClr val="a1bd6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5"/>
          <p:cNvSpPr/>
          <p:nvPr/>
        </p:nvSpPr>
        <p:spPr>
          <a:xfrm>
            <a:off x="3352680" y="3657600"/>
            <a:ext cx="4496040" cy="2743200"/>
          </a:xfrm>
          <a:prstGeom prst="ellipse">
            <a:avLst/>
          </a:prstGeom>
          <a:solidFill>
            <a:srgbClr val="a1bd6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447920" y="32767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1905120" y="32004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n                                     Elect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02:42:25Z</dcterms:created>
  <dc:creator>sada</dc:creator>
  <dc:description/>
  <dc:language>en-US</dc:language>
  <cp:lastModifiedBy>User</cp:lastModifiedBy>
  <dcterms:modified xsi:type="dcterms:W3CDTF">2013-01-09T22:05:14Z</dcterms:modified>
  <cp:revision>8</cp:revision>
  <dc:subject/>
  <dc:title>Atoms, Elements and the Periodic Table</dc:title>
</cp:coreProperties>
</file>